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2C7A-549D-478C-98A0-4039F04A1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11B7-2D8B-4F6B-97ED-6F342FC8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9D06-0707-4187-B0E8-6822D056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DC46-9468-44D1-8D87-C75CFA31E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2F47-58CF-4702-8B65-99E988EA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47ED-040E-4C07-B044-745AEC9E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F19D-B785-42C4-9749-E440F431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96EC-C45D-433A-B63C-453B25AB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A1FA-CB9A-4277-B012-A85C6108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C919-8C5F-401D-BFB3-ED77267B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CC85-C48B-4E21-B20E-30A29712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BD8B-6548-4A6F-B5C4-8981A32C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EE2F-F75D-4D1D-B7E8-A11F33F1743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620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er 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63640" y="488880"/>
            <a:ext cx="22320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arga 360 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min. R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robar pul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03280" y="44280"/>
            <a:ext cx="64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1844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º 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63640" y="1712880"/>
            <a:ext cx="22320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arga 360 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min. R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robar pul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1268280"/>
            <a:ext cx="64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30751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º 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63640" y="2943360"/>
            <a:ext cx="2232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drenalina 1 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carga 360 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 min. R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probar pul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03280" y="2498760"/>
            <a:ext cx="64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42991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º 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63640" y="4167360"/>
            <a:ext cx="2232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miodarona 300 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carga 360 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 min. R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probar pul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3722760"/>
            <a:ext cx="64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55245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º 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92800"/>
            <a:ext cx="2232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drenalina  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carga 360 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 min. R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probar pul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3280" y="4948200"/>
            <a:ext cx="64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5:58:32Z</dcterms:created>
  <dc:creator>OSCAR&amp;MARÍA</dc:creator>
  <dc:description/>
  <dc:language>en-US</dc:language>
  <cp:lastModifiedBy>OSCAR&amp;MARÍA</cp:lastModifiedBy>
  <dcterms:modified xsi:type="dcterms:W3CDTF">2007-03-09T16:03:13Z</dcterms:modified>
  <cp:revision>2</cp:revision>
  <dc:subject/>
  <dc:title>Diapositiva 1</dc:title>
</cp:coreProperties>
</file>